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1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gif" ContentType="image/gif"/>
  <Override PartName="/ppt/media/image13.gif" ContentType="image/gif"/>
  <Override PartName="/ppt/media/image16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9D8-9913-4237-BBB5-96DA49D87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21AD-6AAB-4BA4-B065-9DEE9ED4D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79D-64BA-43B4-A880-5169DAB2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7F3-C539-494C-B8EC-B534BEC0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8B7-5045-40D4-87D7-2E41DC91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F45-238D-4660-B8CA-7007E875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275-39C7-4C45-88A3-FE889F25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8AC-3598-4E6A-AF06-5143768B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06D-94A2-4D81-894D-DC3502E9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C9F-0E17-4695-8320-78832FBC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14D-A957-42CE-8BEF-34778A9E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876-CB69-43D5-ABED-7D4437F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D27-7274-4165-B98A-15570970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E86-F552-46D1-A47F-209F0AE9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5E0E-7571-445F-BDD3-DAB4D0A943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quia.com/rr/202583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5.wm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1.wmf"/><Relationship Id="rId3" Type="http://schemas.openxmlformats.org/officeDocument/2006/relationships/image" Target="../media/image5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&lt;4.1&gt;"/>
          <p:cNvSpPr txBox="1"/>
          <p:nvPr/>
        </p:nvSpPr>
        <p:spPr>
          <a:xfrm>
            <a:off x="2209680" y="4114800"/>
            <a:ext cx="5029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Must Come Down </a:t>
            </a:r>
            <a:endParaRPr b="1" lang="en-US" sz="5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9" name="&lt;2.1&gt;"/>
          <p:cNvSpPr txBox="1"/>
          <p:nvPr/>
        </p:nvSpPr>
        <p:spPr>
          <a:xfrm>
            <a:off x="2162160" y="647640"/>
            <a:ext cx="4819680" cy="163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hat Goes UP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50" name="Picture 7" descr="snow"/>
          <p:cNvPicPr/>
          <p:nvPr/>
        </p:nvPicPr>
        <p:blipFill>
          <a:blip r:embed="rId1"/>
          <a:srcRect l="-987" t="-1002" r="-1002" b="-986"/>
          <a:stretch/>
        </p:blipFill>
        <p:spPr>
          <a:xfrm>
            <a:off x="0" y="0"/>
            <a:ext cx="2057400" cy="193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Rain 4"/>
          <p:cNvPicPr/>
          <p:nvPr/>
        </p:nvPicPr>
        <p:blipFill>
          <a:blip r:embed="rId2"/>
          <a:srcRect l="-983" t="-991" r="-998" b="-991"/>
          <a:stretch/>
        </p:blipFill>
        <p:spPr>
          <a:xfrm>
            <a:off x="7086600" y="0"/>
            <a:ext cx="2057400" cy="175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MAXPAINT0"/>
          <p:cNvPicPr/>
          <p:nvPr/>
        </p:nvPicPr>
        <p:blipFill>
          <a:blip r:embed="rId3"/>
          <a:stretch/>
        </p:blipFill>
        <p:spPr>
          <a:xfrm>
            <a:off x="7086600" y="4475160"/>
            <a:ext cx="33559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MAXPAINT0"/>
          <p:cNvPicPr/>
          <p:nvPr/>
        </p:nvPicPr>
        <p:blipFill>
          <a:blip r:embed="rId4"/>
          <a:stretch/>
        </p:blipFill>
        <p:spPr>
          <a:xfrm flipH="1">
            <a:off x="-609480" y="4419720"/>
            <a:ext cx="320040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MAXPAINT0"/>
          <p:cNvPicPr/>
          <p:nvPr/>
        </p:nvPicPr>
        <p:blipFill>
          <a:blip r:embed="rId5"/>
          <a:stretch/>
        </p:blipFill>
        <p:spPr>
          <a:xfrm>
            <a:off x="762120" y="2438280"/>
            <a:ext cx="33559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MAXPAINT0"/>
          <p:cNvPicPr/>
          <p:nvPr/>
        </p:nvPicPr>
        <p:blipFill>
          <a:blip r:embed="rId6"/>
          <a:stretch/>
        </p:blipFill>
        <p:spPr>
          <a:xfrm>
            <a:off x="6095880" y="2971800"/>
            <a:ext cx="33559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MAXPAINT0"/>
          <p:cNvPicPr/>
          <p:nvPr/>
        </p:nvPicPr>
        <p:blipFill>
          <a:blip r:embed="rId7"/>
          <a:stretch/>
        </p:blipFill>
        <p:spPr>
          <a:xfrm>
            <a:off x="3124080" y="5638680"/>
            <a:ext cx="3355920" cy="177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j0100976[1]"/>
          <p:cNvPicPr/>
          <p:nvPr/>
        </p:nvPicPr>
        <p:blipFill>
          <a:blip r:embed="rId8"/>
          <a:stretch/>
        </p:blipFill>
        <p:spPr>
          <a:xfrm>
            <a:off x="0" y="5275440"/>
            <a:ext cx="1650960" cy="158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j0232172[1]"/>
          <p:cNvPicPr/>
          <p:nvPr/>
        </p:nvPicPr>
        <p:blipFill>
          <a:blip r:embed="rId9"/>
          <a:stretch/>
        </p:blipFill>
        <p:spPr>
          <a:xfrm rot="762600">
            <a:off x="3465360" y="1828440"/>
            <a:ext cx="2384640" cy="237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10"/>
          <a:stretch/>
        </p:blipFill>
        <p:spPr>
          <a:xfrm>
            <a:off x="7583400" y="5229360"/>
            <a:ext cx="1560600" cy="1628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2895480" y="6019920"/>
            <a:ext cx="373392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ade 3 SOL 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eresa Canna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TRT Pittsylvania County Sch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let’s review what we have learned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ater Cycle Qui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way you look at it, the water cycle stays the sam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nspiration to Conden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poration to Conden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ipitation to surface or subsurface runo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umulation of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And the cycle starts agai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Comic Sans MS"/>
              </a:rPr>
              <a:t>So, let’s look at the cycl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4" descr="j039710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 rot="10800000">
            <a:off x="6829200" y="6477120"/>
            <a:ext cx="1933560" cy="1257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vap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sun’s heat provides energy to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apora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ake water disappea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rom the earth’s surface.  Water that can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aporat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go u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an be oceans, lakes, streams, anything where water is “located” even swimming poo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" name="Picture 7" descr="j0232172[2]"/>
          <p:cNvPicPr/>
          <p:nvPr/>
        </p:nvPicPr>
        <p:blipFill>
          <a:blip r:embed="rId2"/>
          <a:stretch/>
        </p:blipFill>
        <p:spPr>
          <a:xfrm>
            <a:off x="7086600" y="304920"/>
            <a:ext cx="1488960" cy="148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3"/>
          <a:stretch/>
        </p:blipFill>
        <p:spPr>
          <a:xfrm>
            <a:off x="6248520" y="5268960"/>
            <a:ext cx="2895480" cy="158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na00136_[1]"/>
          <p:cNvPicPr/>
          <p:nvPr/>
        </p:nvPicPr>
        <p:blipFill>
          <a:blip r:embed="rId4"/>
          <a:stretch/>
        </p:blipFill>
        <p:spPr>
          <a:xfrm>
            <a:off x="7086600" y="1676520"/>
            <a:ext cx="1447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0.03333 L -2.5E-006 -0.64444 E">
                                      <p:cBhvr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3000" fill="hold"/>
                                        <p:tgtEl>
                                          <p:spTgt spid="6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" descr=""/>
          <p:cNvPicPr/>
          <p:nvPr/>
        </p:nvPicPr>
        <p:blipFill>
          <a:blip r:embed="rId1"/>
          <a:stretch/>
        </p:blipFill>
        <p:spPr>
          <a:xfrm rot="10800000">
            <a:off x="6629400" y="6327360"/>
            <a:ext cx="1628640" cy="1058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pi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lik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vapo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xcept plants do it.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ira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where plants lose water to the a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you can see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i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vapora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 sa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9" descr="j0238253[1]"/>
          <p:cNvPicPr/>
          <p:nvPr/>
        </p:nvPicPr>
        <p:blipFill>
          <a:blip r:embed="rId2"/>
          <a:stretch/>
        </p:blipFill>
        <p:spPr>
          <a:xfrm>
            <a:off x="5486400" y="4648320"/>
            <a:ext cx="3657600" cy="214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2172[2]"/>
          <p:cNvPicPr/>
          <p:nvPr/>
        </p:nvPicPr>
        <p:blipFill>
          <a:blip r:embed="rId3"/>
          <a:stretch/>
        </p:blipFill>
        <p:spPr>
          <a:xfrm>
            <a:off x="7086600" y="304920"/>
            <a:ext cx="1488960" cy="1485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a00136_[1]"/>
          <p:cNvPicPr/>
          <p:nvPr/>
        </p:nvPicPr>
        <p:blipFill>
          <a:blip r:embed="rId4"/>
          <a:stretch/>
        </p:blipFill>
        <p:spPr>
          <a:xfrm>
            <a:off x="7086600" y="1676520"/>
            <a:ext cx="1447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0.06667 L -2.5E-006 -0.64444 E">
                                      <p:cBhvr>
                                        <p:cTn id="33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3000" fill="hold"/>
                                        <p:tgtEl>
                                          <p:spTgt spid="7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ndens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water vapor eventually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ndens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r causes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ndens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a lot of something in one place like in a cloud).  It causes tiny droplets to form in clouds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6" descr="na00136_[1]"/>
          <p:cNvPicPr/>
          <p:nvPr/>
        </p:nvPicPr>
        <p:blipFill>
          <a:blip r:embed="rId1"/>
          <a:stretch/>
        </p:blipFill>
        <p:spPr>
          <a:xfrm>
            <a:off x="3657600" y="4419720"/>
            <a:ext cx="1447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3000" fill="hold"/>
                                        <p:tgtEl>
                                          <p:spTgt spid="7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ecipi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clouds holding the tiny droplets of water meet with cool air,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recipi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n happen. 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recipi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water that falls in the form of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sle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no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84280" y="3505320"/>
            <a:ext cx="2074680" cy="2209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10200" y="3086280"/>
            <a:ext cx="29052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981080" cy="128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water falls from the cloud and returns to the 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grou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ome of the water 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ecipit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oaks into the </a:t>
            </a: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grou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4" descr="na00136_[1]"/>
          <p:cNvPicPr/>
          <p:nvPr/>
        </p:nvPicPr>
        <p:blipFill>
          <a:blip r:embed="rId2"/>
          <a:stretch/>
        </p:blipFill>
        <p:spPr>
          <a:xfrm>
            <a:off x="5562720" y="685800"/>
            <a:ext cx="3581280" cy="229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dd00664_[1]"/>
          <p:cNvPicPr/>
          <p:nvPr/>
        </p:nvPicPr>
        <p:blipFill>
          <a:blip r:embed="rId3"/>
          <a:stretch/>
        </p:blipFill>
        <p:spPr>
          <a:xfrm>
            <a:off x="6629400" y="4419720"/>
            <a:ext cx="10098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6 -0.00486 L 0.01666 0.6618 E">
                                      <p:cBhvr>
                                        <p:cTn id="5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ound Wa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Ground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en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recipit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s trapped between layers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c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l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wdiagram"/>
          <p:cNvPicPr/>
          <p:nvPr/>
        </p:nvPicPr>
        <p:blipFill>
          <a:blip r:embed="rId1"/>
          <a:stretch/>
        </p:blipFill>
        <p:spPr>
          <a:xfrm>
            <a:off x="1828800" y="3006720"/>
            <a:ext cx="601992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d the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rou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hold anymore water, the water flows downhill as runoff and eventually returns to the </a:t>
            </a: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l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ocea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3200" spc="-1" strike="noStrike">
                <a:solidFill>
                  <a:srgbClr val="99ccff"/>
                </a:solidFill>
                <a:latin typeface="Comic Sans MS"/>
              </a:rPr>
              <a:t>stre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where i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5" descr="Diagram of the water cycle. "/>
          <p:cNvPicPr/>
          <p:nvPr/>
        </p:nvPicPr>
        <p:blipFill>
          <a:blip r:embed="rId1"/>
          <a:stretch/>
        </p:blipFill>
        <p:spPr>
          <a:xfrm>
            <a:off x="3048120" y="2773440"/>
            <a:ext cx="60958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1T06:52:14Z</dcterms:created>
  <dc:creator>Christine Maunder</dc:creator>
  <dc:description/>
  <dc:language>en-US</dc:language>
  <cp:lastModifiedBy> </cp:lastModifiedBy>
  <dcterms:modified xsi:type="dcterms:W3CDTF">2008-12-01T19:16:01Z</dcterms:modified>
  <cp:revision>16</cp:revision>
  <dc:subject/>
  <dc:title>PowerPoint Presentation</dc:title>
</cp:coreProperties>
</file>